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25.jpeg" ContentType="image/jpeg"/>
  <Override PartName="/ppt/media/image5.wmf" ContentType="image/x-wmf"/>
  <Override PartName="/ppt/media/image2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26.jpeg" ContentType="image/jpeg"/>
  <Override PartName="/ppt/media/image18.wmf" ContentType="image/x-wmf"/>
  <Override PartName="/ppt/media/image20.wmf" ContentType="image/x-wmf"/>
  <Override PartName="/ppt/media/image17.wmf" ContentType="image/x-wmf"/>
  <Override PartName="/ppt/media/image15.jpeg" ContentType="image/jpeg"/>
  <Override PartName="/ppt/media/image16.wmf" ContentType="image/x-wmf"/>
  <Override PartName="/ppt/media/image14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BC56B-0990-4788-A792-4C96EF11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8A62D-0658-45BE-9F55-3AFDD6B1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6D07-13E6-4CC7-8346-B6A5ED4D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47E25-A8F3-44B0-AEAC-60FD713FC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5BB9-D803-4EC5-B62F-70683C8A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5712-F466-439D-B192-00DF4032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EDF71-A6C3-4942-80E9-9770E377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AA54F-A049-4B26-A420-9C16AAB15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CAAA-6BA9-46C0-8372-844526EC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05F6-F15D-4B3B-9E8D-602FF822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0763-B5D7-4F27-B5CF-B78D1E46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27A6-F6A7-4C07-9933-47E16C05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3B82-312B-48E2-8330-B9AEDC12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9F91-9399-4B93-8D33-8612E715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EB14-0E70-489E-9E89-501C3BFC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4956-366E-4B82-B06C-CAC829F5C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6047-AD89-4929-B710-825F0795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F0EE2-3544-4A45-904D-B2AE0FCC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CB9E1-D74E-4482-9D78-1E5BB81B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E15B3-149C-4218-88B4-5D2B7DAC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B76A-D81B-4838-AA5C-704ABD3EF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D2283-FDE1-42EA-90AE-54FAF105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0E9A8-38C2-45F8-B6EF-831F54F3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C221-646F-439F-A18B-7A618CB2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201B-E969-4DBB-A536-ED9780A5337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FAE5-04BF-4FE2-B495-6BE314DB52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sr/4/47/PrstenStefanPrvovencani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9.xml"/><Relationship Id="rId3" Type="http://schemas.openxmlformats.org/officeDocument/2006/relationships/slide" Target="slide25.xml"/><Relationship Id="rId4" Type="http://schemas.openxmlformats.org/officeDocument/2006/relationships/slide" Target="slide10.xml"/><Relationship Id="rId5" Type="http://schemas.openxmlformats.org/officeDocument/2006/relationships/slide" Target="slide26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20.xml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erbianunity.net/culture/history/Serb_History/Rulers/html/prvovencani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6520" y="290520"/>
            <a:ext cx="506160" cy="717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332000" y="189000"/>
            <a:ext cx="7489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Tahoma"/>
              </a:rPr>
              <a:t>Завод за унапређивање образовања и васпитањ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8000" y="1341360"/>
            <a:ext cx="2879640" cy="3959280"/>
          </a:xfrm>
          <a:prstGeom prst="rect">
            <a:avLst/>
          </a:prstGeom>
          <a:solidFill>
            <a:srgbClr val="8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Аутори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Наставни предмет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Тема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ahoma"/>
              </a:rPr>
              <a:t>Узраст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59280" y="1341360"/>
            <a:ext cx="5976720" cy="3959280"/>
          </a:xfrm>
          <a:prstGeom prst="rect">
            <a:avLst/>
          </a:prstGeom>
          <a:solidFill>
            <a:srgbClr val="8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Драгана Мишић,мр Маја Анђелковић Шегуљев,    Данк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Шпехар - ОШ “Јелена Ћетковић” Беогр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Историја, српски језик, верска наст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Мултидисциплинарни р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Србија почетком 13. века – Стефан Првовенча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ff"/>
                </a:solidFill>
                <a:latin typeface="Tahoma"/>
              </a:rPr>
              <a:t>Шести разре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5120" y="5791320"/>
            <a:ext cx="1655640" cy="934920"/>
          </a:xfrm>
          <a:prstGeom prst="wedgeRoundRectCallout">
            <a:avLst>
              <a:gd name="adj1" fmla="val -77421"/>
              <a:gd name="adj2" fmla="val -40152"/>
              <a:gd name="adj3" fmla="val 16667"/>
            </a:avLst>
          </a:prstGeom>
          <a:solidFill>
            <a:srgbClr val="ffff99">
              <a:alpha val="63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ffffff"/>
                </a:solidFill>
                <a:latin typeface="Verdana"/>
              </a:rPr>
              <a:t>Кликните овде за унос приказа часа у </a:t>
            </a:r>
            <a:r>
              <a:rPr b="0" lang="sr-Latn-CS" sz="1200" spc="-1" strike="noStrike">
                <a:solidFill>
                  <a:srgbClr val="ffffff"/>
                </a:solidFill>
                <a:latin typeface="Verdana"/>
              </a:rPr>
              <a:t>Word </a:t>
            </a:r>
            <a:r>
              <a:rPr b="0" lang="sr-CS" sz="1200" spc="-1" strike="noStrike">
                <a:solidFill>
                  <a:srgbClr val="ffffff"/>
                </a:solidFill>
                <a:latin typeface="Verdana"/>
              </a:rPr>
              <a:t>документу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68360" y="5445000"/>
          <a:ext cx="1219320" cy="115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5445000"/>
                    <a:ext cx="121932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ЖЕН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ЕВДОКИЈА (ћерка византијског цара  Алексиј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Анђел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АНА ( унука дужда Енрика Дандал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076720" y="2276640"/>
          <a:ext cx="38124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2276640"/>
                    <a:ext cx="3812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7596360" y="3429000"/>
          <a:ext cx="380880" cy="71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3429000"/>
                    <a:ext cx="3808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ЗАДУЖБИН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ЖИЧ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" descr="Слика:Monastère de Zica.jpg"/>
          <p:cNvPicPr/>
          <p:nvPr/>
        </p:nvPicPr>
        <p:blipFill>
          <a:blip r:embed="rId1"/>
          <a:stretch/>
        </p:blipFill>
        <p:spPr>
          <a:xfrm>
            <a:off x="3276720" y="1428840"/>
            <a:ext cx="5327640" cy="50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971640" y="2276640"/>
          <a:ext cx="380880" cy="714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2276640"/>
                    <a:ext cx="3808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МАНАСТИР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туден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Хиланда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Ватопе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вети  Пантелејмо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203640" y="1700280"/>
          <a:ext cx="38088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700280"/>
                    <a:ext cx="3808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2987640" y="2276640"/>
          <a:ext cx="380880" cy="71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76640"/>
                    <a:ext cx="3808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ВЛАДАРСКЕ ТИТУЛ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ВЕЛИКИ ЖУПАН ДО 1217. ГОД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КРАЉ ОД 121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евастократ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7380360" y="1700280"/>
          <a:ext cx="38088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1700280"/>
                    <a:ext cx="3808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924360" y="2276640"/>
          <a:ext cx="380880" cy="71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2276640"/>
                    <a:ext cx="3808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3780000" y="2924280"/>
          <a:ext cx="380880" cy="714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2924280"/>
                    <a:ext cx="3808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КЊИЖЕВНИК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ЖИТИЈЕ СВЕТОГ СИМЕОНА – најзначајније књижевно дело Стефана Првовенчан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Заједно са братом Савом обележио је српску књижевност почетком 13. 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51280" y="2708280"/>
          <a:ext cx="38088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708280"/>
                    <a:ext cx="3808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cc"/>
                </a:solidFill>
                <a:latin typeface="Tahoma"/>
              </a:rPr>
              <a:t>Прстен великог жупана, потом краља Стефана Првовенчаног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Очувао се уз његове мошти које се налазе у Стуениц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Израђен је од злата и украшен орнаментом од филигранских плетениц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Могао би бити део старог, наслеђеног породичног наки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То је редак предмет за који пуздано знамо да је припадао лично једном средњевековном српском владар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Слика:PrstenStefanPrvovencan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2000" y="2484360"/>
            <a:ext cx="28288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Литература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сторија српског народа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, Београд 1981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.Благојевић, Немањићи и Лазаревићи и српска средњевековна државност, Београд 200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.Благојевић, Д.Медаковић, Историја српске државности, Нови Сад 200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.Благојевић, Србија у доба Немањића, Београ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.Благојевић, Државна управа у српским средњевековним земљама,Београд 199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Д. Николић, Сви владари Србије, Деспотовац 199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Д. Николић, Српске краљице и царице, Деспотовац 199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. Благојевић, Србија Немањића и Хиландар, Београд 199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Лексикон српског средњег 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Домаћи задатак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говорити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Ко је био први крунисани краљ код Срб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Каква је веза династије Немањића са предходним владарским династијама код Срб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ронаћи када православна црква слави светитеље светог Симеона Мироточивог и светог Симо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cc"/>
                </a:solidFill>
                <a:latin typeface="Tahoma"/>
              </a:rPr>
              <a:t>ДРУГИ ЧАС</a:t>
            </a:r>
            <a:r>
              <a:rPr b="0" lang="sr-CS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r>
              <a:rPr b="0" lang="sr-CS" sz="3800" spc="-1" strike="noStrike">
                <a:solidFill>
                  <a:srgbClr val="ffffcc"/>
                </a:solidFill>
                <a:latin typeface="Tahoma"/>
              </a:rPr>
              <a:t>ИСТОРИЈА</a:t>
            </a:r>
            <a:br>
              <a:rPr sz="3800"/>
            </a:br>
            <a:r>
              <a:rPr b="0" lang="sr-CS" sz="2400" spc="-1" strike="noStrike">
                <a:solidFill>
                  <a:srgbClr val="ffffcc"/>
                </a:solidFill>
                <a:latin typeface="Tahoma"/>
              </a:rPr>
              <a:t>ОБРАДА </a:t>
            </a:r>
            <a:br>
              <a:rPr sz="3800"/>
            </a:br>
            <a:r>
              <a:rPr b="0" lang="sr-CS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СРБИЈА ПОЧЕТКОМ 13. ВЕ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ТЕФАН ПРВОВЕНЧА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аутор Драгана Мишић, професор истор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Сиже рад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вод-игра, мотивација за ча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Главни део- кроз дати материјал навести ученике да активно учествују у обради дате тем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- уочавање задатих елемената кроз активну наставу и дијал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Завршни део- кроз обрађено градиво доћи до нових закључака, учење путем открића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АПСТРАК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Време почетком 13. века је значајан период у историји српског народа јер је тада држава добила међународно признање и створена је самостална српска црква. Стефан Првовенчани је владао у периоду када крупни догађаји потресају Европу (први пад Цариграда) и Србија бива угрожена са више страна. Његова браћа и синови су важни актери тих догађањ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cc"/>
                </a:solidFill>
                <a:latin typeface="Tahoma"/>
              </a:rPr>
              <a:t>Одговори на постављена питањ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рви крунисани краљ код Срба био је Михаило 1077. (краљ Дукљ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тефан Немања зове Дукљу својом дедовином, али нема података о родбинским везама са предходним династија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вети Симеон Мироточиви слави се 13 /26. фебру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вети Симон 24. септембар/7. октоба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cc"/>
                </a:solidFill>
                <a:latin typeface="Tahoma"/>
              </a:rPr>
              <a:t>Припрема за обнављање градив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Ученици су подељени у груп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Групе су означене бро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j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евима 1,2,3,4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вака група одређује свог представника који даје одговоре и јавља се по принципу –ко ће пр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Комисија која бележи и надгледа редослед јављања унапред је одређен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аставник само координира р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Питања за обнављање градив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CS" sz="2000" spc="-1" strike="noStrike" u="sng">
                <a:solidFill>
                  <a:srgbClr val="ebf25a"/>
                </a:solidFill>
                <a:uFillTx/>
                <a:latin typeface="Tahoma"/>
                <a:hlinkClick r:id="rId1" action="ppaction://hlinksldjump"/>
              </a:rPr>
              <a:t>Када је било досељавање Срб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sr-CS" sz="2000" spc="-1" strike="noStrike" u="sng">
                <a:solidFill>
                  <a:srgbClr val="ebf25a"/>
                </a:solidFill>
                <a:uFillTx/>
                <a:latin typeface="Tahoma"/>
                <a:hlinkClick r:id="rId2" action="ppaction://hlinksldjump"/>
              </a:rPr>
              <a:t> </a:t>
            </a:r>
            <a:r>
              <a:rPr b="0" lang="sr-CS" sz="2000" spc="-1" strike="noStrike" u="sng">
                <a:solidFill>
                  <a:srgbClr val="ebf25a"/>
                </a:solidFill>
                <a:uFillTx/>
                <a:latin typeface="Tahoma"/>
                <a:hlinkClick r:id="rId3" action="ppaction://hlinksldjump"/>
              </a:rPr>
              <a:t>Који простор Срби насељавају на Балкану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sr-CS" sz="2000" spc="-1" strike="noStrike" u="sng">
                <a:solidFill>
                  <a:srgbClr val="ebf25a"/>
                </a:solidFill>
                <a:uFillTx/>
                <a:latin typeface="Tahoma"/>
                <a:hlinkClick r:id="rId4" action="ppaction://hlinksldjump"/>
              </a:rPr>
              <a:t> </a:t>
            </a:r>
            <a:r>
              <a:rPr b="0" lang="sr-CS" sz="2000" spc="-1" strike="noStrike" u="sng">
                <a:solidFill>
                  <a:srgbClr val="ebf25a"/>
                </a:solidFill>
                <a:uFillTx/>
                <a:latin typeface="Tahoma"/>
                <a:hlinkClick r:id="rId5" action="ppaction://hlinksldjump"/>
              </a:rPr>
              <a:t>Када се јављају први писани подаци о Србим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sr-CS" sz="2000" spc="-1" strike="noStrike" u="sng">
                <a:solidFill>
                  <a:srgbClr val="ebf25a"/>
                </a:solidFill>
                <a:uFillTx/>
                <a:latin typeface="Tahoma"/>
                <a:hlinkClick r:id="rId6" action="ppaction://hlinksldjump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Који историски извор пружа најстарије  податке о Србима и њиховим првим државам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5. Ко су били први записани владари у Србији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sr-CS" sz="2000" spc="-1" strike="noStrike" u="sng">
                <a:solidFill>
                  <a:srgbClr val="ebf25a"/>
                </a:solidFill>
                <a:uFillTx/>
                <a:latin typeface="Tahoma"/>
                <a:hlinkClick r:id="rId7" action="ppaction://hlinksldjump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Набројати српске земље у Приморју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7. Које су биле најзначајније државе српског народа до 12. век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8. Које владарске династије се јављају у српским земљама до 12. век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sr-CS" sz="2000" spc="-1" strike="noStrike" u="sng">
                <a:solidFill>
                  <a:srgbClr val="ebf25a"/>
                </a:solidFill>
                <a:uFillTx/>
                <a:latin typeface="Tahoma"/>
                <a:hlinkClick r:id="rId8" action="ppaction://hlinksldjump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Које владарске титуле се јављају у српским земљама до 12. века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10. Како гласи владарска титула Стефана Немање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Колико смо успешно научил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747720"/>
                <a:gridCol w="749160"/>
                <a:gridCol w="747720"/>
                <a:gridCol w="747720"/>
                <a:gridCol w="747720"/>
                <a:gridCol w="749520"/>
                <a:gridCol w="747720"/>
                <a:gridCol w="747720"/>
                <a:gridCol w="747720"/>
                <a:gridCol w="749160"/>
                <a:gridCol w="7477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уп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итањ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Питање бр. 1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гово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Досељавање Срба било је у 7. ве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рби доносе своје име из постојбине која је била на реци Висли (како се каже у изворима: доселили су се за време цара Ираклија са север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Питање бр. 2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гово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рби на Балкану насељавају простор који се налази на простору између Јадранског мора (на југу) и реке Саве (на севару), река Врбас и Цетина (на западу) и река Ибар и западне Мораве (на истоку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Питање бр. 3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гово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рви писани помен Срба везује се за устанак Људевита Посавског 819-822. где се каже да бежи Србима. То дело је Анали Франачког краљев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Питање бр. 4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гов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ајстарије податке о Србима даје дело византијског цара Константина Порфирогенита  (913-959) “Спис о народима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Питање бр. 5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гов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рви записани подаци говоре о кнезу Вишеславу, кога је наследио Радослав, а њега Просигој али о њима ништа више није познато. Србија је ушла у жижу крупних политичких збивања тек за време кнеза Властимира, па су отуда о томе и сачувани извесни подац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Питање бр. 6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гово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рпске земље у приморју с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Дукља – источно од Боке Которске према реци Боја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Травунија – источно од Дубровника до Боке Которск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Захумље – од Неретве до Дубровни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бласт Неретљана или Паганија – између Цетине и Неретв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први час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ултидисциплинарни ча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истор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верска наста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српски јези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РБИЈА ПОЧЕТКОМ 13.ВЕ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ТЕФАН ПРВОВЕНЧА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Питање бр. 7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гово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ајзначајније државе српског народа до 12. века биле су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рбија 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Дукљ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Питање бр. 8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гово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ајзначајније династије у српским земљама биле с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Властимировић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Питање бр. 9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гово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Владарске титуле у српским земљама с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Кне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Краљ (у Дукљ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Велики жуп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Питање бр. 10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дгово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тефан Немања је био велики жуп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cc"/>
                </a:solidFill>
                <a:latin typeface="Tahoma"/>
              </a:rPr>
              <a:t>Србија у доба Стефана Првовенчаног</a:t>
            </a:r>
            <a:br>
              <a:rPr sz="3800"/>
            </a:br>
            <a:r>
              <a:rPr b="0" lang="sr-CS" sz="2400" spc="-1" strike="noStrike">
                <a:solidFill>
                  <a:srgbClr val="ffffcc"/>
                </a:solidFill>
                <a:latin typeface="Tahoma"/>
              </a:rPr>
              <a:t>историјска карта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4" name="" descr="Image:Stefan Nemanja.jpg"/>
          <p:cNvPicPr/>
          <p:nvPr/>
        </p:nvPicPr>
        <p:blipFill>
          <a:blip r:embed="rId1"/>
          <a:stretch/>
        </p:blipFill>
        <p:spPr>
          <a:xfrm>
            <a:off x="2916360" y="1916280"/>
            <a:ext cx="32446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Немањина владавин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воју плодну и бурну политичку каријеру велики жупан Стефан Немања решио је да оконча тако што ће се добровољно одрећи власти, а потом и замонашити. У том циљу сазвао је државни сабор 25. марта 1196. у Расу, на којем су били присутни чланови његове породице, високи представници цркве и најугледнија властела. За свог наследника одредио је млађег сина Стефана, зета византијског цара Алексиј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 Анђел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Чин монашења обавио је рашки епископ Калиник, па је Немања добио монашко име Симеон, док је његова жена Ана постала монахиња Анастасија. Као монах повукао се у манастир Студеницу, а монахиња Анастасија у Богородичин манастир у Рас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cc"/>
                </a:solidFill>
                <a:latin typeface="Tahoma"/>
              </a:rPr>
              <a:t>Сусрет монаха Симеона са сином монахом Савом на Светој Гор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771640" y="1989000"/>
            <a:ext cx="369900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Долазак на влас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тефан Немања је свој престо и врховну власт оставио свом сину Стефану 1196. док је најстаријем сину Вукану дао велику удеону кнежевину, која је обухватала: Дукљу, Далмацију, Требиње и Хвосн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тефан је тада постао велики жупан, а од свог таста византијског цара добио је титулу севастократора, од које је била виша једино титула деспо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Удеони кнез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Удеони кнез је у својој кнежевини уживао велику самосталност, али је ипак морао да признаје врховну власт великог жупана. Све док је Немања владао земљом, Вукан се тако и понашао, али када је врховна власт пренета на његовог брата Стефана, изгледа да се она није осећала у Вукановој кнежеви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Рат са братом Вуканом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Разлози за р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-Вукан је престао да признаје врховну власт б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-Стефан је Вукану одузео Хвосно и Топли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Вукан је свечано дочекао после развода Евдок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Вукан је склопио савез са угарским краљем Емериком да уз његову помоћ преузме власт у Срб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Ра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-у лето 1202. Стефан је био протеран из Срб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-стицање врховне власти Вукан је платио превисоком ценом, поштоје угарски краљ сматрао да је тада под своју врховну власт ставио и српског великог жупана и Срб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Сиже рад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Увод – мотивација за р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Главни део – кроз прикупљени материјал навести ученике да активно учествују у рад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- уочавање задатих елемената кроз активну наставу и дијал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Завршни део – кроз обрађено градиво доћи до нових закључака, учење путем открић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Крај грађанског рата у Србиј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а већу помоћ из Угарске Вукан није могао да рачуна јер се краљ Емерик налазио у рату са братом, а потом умире 1204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рсташи освајају Царигр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рбија је била опустошена у овом рату, па је мир био потребан и једном и другом бра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Борбе су заустављене крајем 1204. или у току 1205. годи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Последице грађанског ра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адржина мировног уговора није позната, али се на основу успостављених односа може закључити да је Стефан остао на престолу великог жупана и да је њему припадала врховна власт у држав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Вукан је као велики кнез задржао своју удеону кнежевин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cc"/>
                </a:solidFill>
                <a:latin typeface="Tahoma"/>
              </a:rPr>
              <a:t>Доментијанов опис грађанског рат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оскрнави се земља наша нашим безакоњима и постаде убијена крвљу, и упадосмо у ропство иноплеменика (туђинаца), и непријатељи наши поругаше нам се због нашег безакоња. Јер када иноплеменици дођоше, ваистину, опустеше отачество светога, и сабрано преподобним (Немањом) са свију страна разграбише, једни падоше под оружја, други беше одведени у ропство, други изгубише сво имање и телесној ништети предадоше се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после њих дође други иноплеменик, звани глад, гориод оних који су прешли, и сатвори свој други плен већи од првога, беома не волећи наш род, стрељајући без стреле и бодући без копља, и секући без мача, и убијајући без шибе, а просто рећи гонећи без ногу, и хватајући без руку, и кољући без ножа, и ходећи без икаквог оружја и полажући толика тела мртва “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Канонизација Симеона Немањ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Процес канонизације започет је још у Хиландару, а завршен када су мошти донете у Студени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тефан Немања је за живота оставио дубок траг у политичком и верском животу српског на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лади хришћански народи , међу њима и Срби, нису имали прилике да из своје средине дају апостоле, мученике и црквене оце, у доба када се хришћанство учвршћива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лади хришћански народи настојали су да стекну светитеље из своје средине, а би се у сваком погледу изједначили са староседеоцима и да би имали своје заштитнике на неб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Чуда светог Симеон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тефан Првовенчани је готово све своје политичке успехе приказао као “чуда” светог Симе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н му је помогао у борби против бугарског обласног господара Стреза, против епирског владара Михаила, против бугарског цара Борила и латинског цара Хенриха Фландријско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cc"/>
                </a:solidFill>
                <a:latin typeface="Tahoma"/>
              </a:rPr>
              <a:t>Успостављање култа првих Немањић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Култу светог Симеона касније ће се придружити и култ светог Саве, па су они и у књижевности и уметности приказивани као нераскидив богоносни па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рема средњевековном схватању свети Симеон и свети Сава, појединачно или заједно, штите српски народ, цркву, државу, владара и све што чини Србију, па су због тога постали битни чиниоци у етничкој свести, из које нису нестали све до најновијег време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Окружење Србиј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1204. створено је Латинско царство које је било састављњно из више држава од којих је Солунска краљевина обухватала Свету Гор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Бугарска је била узела учешће у распаду и деоби византијских земаља, па се због тога сукобила са крсташи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cc"/>
                </a:solidFill>
                <a:latin typeface="Tahoma"/>
              </a:rPr>
              <a:t>Запоседање нових крајева и одбрана Немањиног наслеђ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астале заплете искористио је Срефан па је 1208. припојио својој држави: град Ниш и Нишку област, Липљан, Врање, град Призрен и Призренску област, Горњи и Доњи Полог (данас ширу околину Гостивара и Тето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ве је ове градове и крајеве својевремено освојио Стефан Немања, али их је изгубиопосле битке на Морави (1190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Дипломатија монаха Сав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Располажући недовољним снагама за вече офанзивне акције, пошто је Србија била исцрпљена и ослабљена грађанским ратом, Стефан је био принуђен да се више ослања на дипломатску вештину, него на оружје да ви очувао своје текови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Монах Сава је био у дипломатској мисији у Просегу Стрезу да га одговори да нападне Срб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Србија се тада спасавала на чудноват начин, мудрошћу браће Саве и Стефана који су радили плански и учвршћивали култ светог Симе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Краљевина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редивши своје односе у земљи и са суседима, а уживајући подршку моћне Венеције, српски велики жупан затражио је по други пут круну од пап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апа Хонорије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послао је венац (круну) преко свог посебног легата (изасланика) 1217. годин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а добијањем краљевског венца , Стефан се у постојећој хијерархији држава и хришћанских владара изједначио са осталим хришћанским краљевима, а српској држави је признат суверенит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Припрема за рад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Ученици су већ подељени у груп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вака група је према свом интересовању добила задатке да припреме базу подата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Групе су извршиле одабир припремљеног материјала и припремиле се за презентациј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аставници само координирају ра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Краљевска титул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велики краљ, намесни господин све српске земље и Диоклитије и Далмације и Травуније и Хумске Земље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д српских земаља његовом титулатуром није обухваћена једино Босна, која је у то доба самостална држ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 узору на византијске царева, он узима титулу “самодржац” која представља преводвизантијског царског епитета “автократор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Жича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едиште архиепископиј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свећена је Вазнесењу Господњем (Спасовдан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Често се зове “Дом Спасов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9" name="" descr="почетна3"/>
          <p:cNvPicPr/>
          <p:nvPr/>
        </p:nvPicPr>
        <p:blipFill>
          <a:blip r:embed="rId1"/>
          <a:stretch/>
        </p:blipFill>
        <p:spPr>
          <a:xfrm>
            <a:off x="826920" y="2421000"/>
            <a:ext cx="30974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Епископиј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На територији Србије у доба Стефана Првовенчаног постојала су три епископска седишта: Рас, Призрен и Липљ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Архиепископ Сава је основао још седам нових: Зетску, Хумску, Дабарску, Моравичку, Будимљанску, Хвостанску и Топличк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Самосталност цркв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икејскао царство је постајало све снажније, а у Никеји је боравио и васељенски патријарх, па је ова држава постепено преузимала улогу Византиј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ава се обратио са молбом цару Теодору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Ласкарису и васељенском патријарху Манојлу Сарантену, да у држави Стефана Првовенчаног оснују посебну архиепископиј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Монах Сава је именован за архиепископа, а архиепископија је добила аутокефалност 1219. годин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cc"/>
                </a:solidFill>
                <a:latin typeface="Tahoma"/>
              </a:rPr>
              <a:t>Србија после проглашења краљевине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пасност по Србију претила је из Угарске која је Србију сматрала својом територијом, али је ту опасност отклонио дипломатским путем архиепископ Са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Опасност по Србију претила је епирског цара Теодор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Анђела, али је опасност отклоњена када је свог сина Радослава оженио Аном (1219. или 1220.), ћерком Теодора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Анђела. У то време Радослав је већ био одређен за наследника престола. (Радослав је владао Србијом од 1228. до пред крај 1233. годин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Аутокефалност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а стицањем аутокефалности (независности) , епископи у Србији добијају право да из своје средине бирају и хиротонишу (посвете) српског архиепископа, а да претходно нису тражили никакву сагласност ни византијског цара, нити васељенског патријар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Створена је могућност и обавеза  да се у оквирима православне “васељене” оснује посебна Српска православна црк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Књижевност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Богослужење и ширење хришћанског учења не могу се ни замислити без коришћења неопходних књиг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ирослављево јеванђеље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је настало око 1185. за великог хумског кнеза Мирослава, брата Стефана Немањ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Вуканово јеванђеље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настало је око 1202. а писано је за Стефана који је свргнут с власти, па је стављено име његовог бра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Богослужбене книге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– псалтири, требници, служабници, октоис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житиа” </a:t>
            </a: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и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 “службе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Зачетник свега овога био је монах Сава, много раније када је постао архиепископ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Tahoma"/>
              </a:rPr>
              <a:t>Мало је случајева у историји да су два сина једног европског владара били образовани и обдарени да се могу успешно бавити и књижевношћ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Савина књижевна дел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1190. Карејски тип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1200. Хиландарски тип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1207. Студенички тип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У Хиландарском типику саопштено је кратко житије светог Симео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1207. Саставио је опширно житије светога Симеона, које је сачињавало уводни део Студеничког тип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Номоканон или Законоправило или Крмчија светога Саве – зборник царских или државних закона и црквених правила са тумачењ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Дела Стефана Првовенчаног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1200. или 1201. повеља Хиландару 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– показао књижевни талена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Житије светога Симеона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– снажно су истакнута славна овоземаљска дела Стефана Немање. Посебно су наглашене његове политичке заслуге за српску државу и православну веру, а онда и “чуда” која је као светитељ чинио, спасавајући својеотачеств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Велика је заслуга Стефана Првовенчаног што је свог оца приказао као светитеља на небу као главног заштитника српске државе и српских влада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Писменост и школ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Манастири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су били важна места за стицање обрауовањ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арохијско свештенство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је чак било дужно да бар једног од својих синова образуј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Постојала си и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“училишта”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 која су водили учитељи световњац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Деца најбогатијих родитеља имали су добре </a:t>
            </a:r>
            <a:r>
              <a:rPr b="1" lang="sr-CS" sz="2800" spc="-1" strike="noStrike">
                <a:solidFill>
                  <a:srgbClr val="ffffff"/>
                </a:solidFill>
                <a:latin typeface="Tahoma"/>
              </a:rPr>
              <a:t>приватне учитеље</a:t>
            </a:r>
            <a:r>
              <a:rPr b="0" lang="sr-CS" sz="2800" spc="-1" strike="noStrike">
                <a:solidFill>
                  <a:srgbClr val="ffffff"/>
                </a:solidFill>
                <a:latin typeface="Tahoma"/>
              </a:rPr>
              <a:t>. Сви синови Стефана Немање имали су приватне учитељ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Стефан Првовенчан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40000" y="1268280"/>
            <a:ext cx="4824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Карактеристике владавин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рбија је имала своју територију – српску земљ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рбија је имала свој народ – Срб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рбија је имала своје владаре – светородну династију Немањић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Више се од тога није могло пожеле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Значај владавине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Стефан Првовенчани је и као велики жупан и као краљ успео да сачува све наслеђене земље, да прошири државну територију у правцу југоистока, да прибави Србији међународно признање добијањем краљевске круне, да помогне свом брату Сави приликом организовања Српске православне цркве, која је на духовном плану српски народ чвршће везивала у једну целин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Питања за понављањ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1. Како је Стефан Првовенчани дошао на власт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2. Шта је изазвало рат са братом Вуканом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3. Какве су биле последице грађанског рат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4. Како је Стефан одбранио Немањино наслеђе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5. Када је Србија постала краљевина и како је гласила краљевска титула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6. Која је задужбина Стефана Првовенчаног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7. Ко и како је осамосталио српску цркву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8. Која су књижевна дела Стефана Првовенчаног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9. Које су карактеристике владавине Стефана Првовенчаног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ahoma"/>
              </a:rPr>
              <a:t>10. Какав је значај владавине Стефана Првовенчаног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Табела за праћење одговор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730080"/>
                <a:gridCol w="765360"/>
                <a:gridCol w="747720"/>
                <a:gridCol w="749160"/>
                <a:gridCol w="747720"/>
                <a:gridCol w="749520"/>
                <a:gridCol w="747720"/>
                <a:gridCol w="749160"/>
                <a:gridCol w="747720"/>
                <a:gridCol w="747720"/>
                <a:gridCol w="747720"/>
              </a:tblGrid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рупе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итања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ЛИТЕРАТУРА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сторија српског народа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, Београд 1981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.Благојевић, Немањићи и Лазаревићи и српска средњевековна државност, Београд 2004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.Благојевић, Д.Медаковић, Историја српске државности, Нови Сад 2000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М.Благојевић, Србија у доба Немањића, Београд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.Благојевић, Државна управа у српским средњевековним земљама,Београд 199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Д. Николић, Сви владари Србије, Деспотовац 199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Д. Николић, Српске краљице и царице, Деспотовац 199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М. Благојевић, Србија Немањића и Хиландар, Београд 1998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ahoma"/>
              </a:rPr>
              <a:t>Лексикон српског средњег ве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800" spc="-1" strike="noStrike">
                <a:solidFill>
                  <a:srgbClr val="ffffcc"/>
                </a:solidFill>
                <a:latin typeface="Tahoma"/>
              </a:rPr>
              <a:t>РОДИТЕЉИ</a:t>
            </a:r>
            <a:br>
              <a:rPr sz="3800"/>
            </a:br>
            <a:r>
              <a:rPr b="0" lang="sr-CS" sz="3800" spc="-1" strike="noStrike">
                <a:solidFill>
                  <a:srgbClr val="ffffcc"/>
                </a:solidFill>
                <a:latin typeface="Tahoma"/>
              </a:rPr>
              <a:t>МОНАХИЊА АНАСТАСИЈА И МОНАХ СИМЕОН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8000" y="1916280"/>
            <a:ext cx="5112000" cy="383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7596360" y="3500280"/>
          <a:ext cx="380880" cy="714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96360" y="3500280"/>
                    <a:ext cx="3808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116000" y="3933720"/>
          <a:ext cx="380880" cy="7146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3933720"/>
                    <a:ext cx="3808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БРАЋ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ВУКАН – старији брат Стефана Првовенчаног, удеони кнез који управља Зет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РАСТКО – млађи брат Стефана Првовенчаног, управљао је Хумом, али се рано замонашио и добио монашко име Сава, био је оснивач и први српски архиеписко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924360" y="2781360"/>
          <a:ext cx="38088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2781360"/>
                    <a:ext cx="3808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564000" y="5300640"/>
          <a:ext cx="380880" cy="71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64000" y="5300640"/>
                    <a:ext cx="3808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ffffcc"/>
                </a:solidFill>
                <a:latin typeface="Tahoma"/>
              </a:rPr>
              <a:t>СИНОВИ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РАДОСЛАВ – ожењен Аном, ћерком епирског цара Теодор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Анђ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ВЛАДИСЛАВ – ожењен Белосавом, ћерком бугарског цара Јована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УРО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ожењен Јеленом Анжујско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ПРЕДИСЛАВ (АРХИЕПИСКОП САВ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I</a:t>
            </a:r>
            <a:r>
              <a:rPr b="0" lang="sr-CS" sz="3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308720" y="2205000"/>
          <a:ext cx="38124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8720" y="2205000"/>
                    <a:ext cx="3812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012000" y="3284640"/>
          <a:ext cx="380880" cy="71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3284640"/>
                    <a:ext cx="3808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7380360" y="3933720"/>
          <a:ext cx="380880" cy="714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80360" y="3933720"/>
                    <a:ext cx="380880" cy="7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7740720" y="4508640"/>
          <a:ext cx="380880" cy="7142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40720" y="4508640"/>
                    <a:ext cx="38088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8:24:37Z</dcterms:created>
  <dc:creator>Milos M.</dc:creator>
  <dc:description/>
  <cp:keywords/>
  <dc:language>en-US</dc:language>
  <cp:lastModifiedBy>Korisnik</cp:lastModifiedBy>
  <dcterms:modified xsi:type="dcterms:W3CDTF">2009-01-05T17:35:58Z</dcterms:modified>
  <cp:revision>10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