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5.wmf" ContentType="image/x-wmf"/>
  <Override PartName="/ppt/media/image27.jpeg" ContentType="image/jpeg"/>
  <Override PartName="/ppt/media/image4.wmf" ContentType="image/x-wmf"/>
  <Override PartName="/ppt/media/image1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jpeg" ContentType="image/jpeg"/>
  <Override PartName="/ppt/media/image14.jpeg" ContentType="image/jpeg"/>
  <Override PartName="/ppt/media/image3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pptx" ContentType="application/vnd.openxmlformats-officedocument.presentationml.presentation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69A-7ABC-4BA0-A454-618B1477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193-AA01-4B9E-BCCE-2ACB82EB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085-F736-4974-B80A-7C80F5E3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462-8258-428A-B475-4C46A991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8781A-CC4D-40F0-A9CE-9BF9F688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2C904-A896-4459-B667-72E3281D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146FB-C70E-4A96-B1D7-76D2418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4061-BB34-4B64-9415-92D4F288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A7C93-4CEC-4422-ADBC-654D5580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8BF83-5BDA-4C45-8DDD-89E7C925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91E89-A921-4080-8325-BBC5144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5E6-BCA3-409C-AF7C-9914592F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0CDD6-36B2-45F3-8924-0D7CB450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983EA-BF46-4503-92F6-F1D93F86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ED271-A510-4CA9-8963-7A29ACDD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01BCB-7535-4A46-9E17-22F83E96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EACD5-C5B2-4940-8FD0-D4AC7E4A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166-6ADF-41E4-81AB-4DAFC74C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5D5-DC17-41F9-9AA7-CC29B4AD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C59-49AA-4925-9094-574017EE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E8A-C4E1-44BF-95FE-1F78BD23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E22-627D-41BF-84A0-62B8354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B13-CB27-454B-8EE6-13CFC5B7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05B-A1FC-4E8D-85B4-846DD255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31BB-7946-4A76-B09E-5C1FF41A19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FE72-22BE-4FBE-A0ED-3D8562E8D3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3.wmf"/><Relationship Id="rId6" Type="http://schemas.openxmlformats.org/officeDocument/2006/relationships/package" Target="../embeddings/oleObject3.pptx"/><Relationship Id="rId7" Type="http://schemas.openxmlformats.org/officeDocument/2006/relationships/image" Target="../media/image4.wmf"/><Relationship Id="rId8" Type="http://schemas.openxmlformats.org/officeDocument/2006/relationships/package" Target="../embeddings/oleObject4.pptx"/><Relationship Id="rId9" Type="http://schemas.openxmlformats.org/officeDocument/2006/relationships/image" Target="../media/image5.wmf"/><Relationship Id="rId10" Type="http://schemas.openxmlformats.org/officeDocument/2006/relationships/package" Target="../embeddings/oleObject5.pptx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3.xml"/><Relationship Id="rId19" Type="http://schemas.openxmlformats.org/officeDocument/2006/relationships/slide" Target="slide14.xml"/><Relationship Id="rId20" Type="http://schemas.openxmlformats.org/officeDocument/2006/relationships/slide" Target="slide14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6.xml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4720" y="243000"/>
            <a:ext cx="503280" cy="720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b3edff"/>
                </a:solidFill>
                <a:latin typeface="Arial"/>
              </a:rPr>
              <a:t>Завод за унапређивање образовања и васпитањ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66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66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Драгана Мишић, Маја Анђелковић-Шегуљев и Данка Шпехар, Основна школа “Јелена Ћетковић”, Бео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Историја, Српски језик и Веронау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осовска битка у националној историји, народним епским песмама и црквеном и народном памћењ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ше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5791320"/>
            <a:ext cx="1655640" cy="934920"/>
          </a:xfrm>
          <a:prstGeom prst="wedgeRoundRectCallout">
            <a:avLst>
              <a:gd name="adj1" fmla="val -77421"/>
              <a:gd name="adj2" fmla="val -40152"/>
              <a:gd name="adj3" fmla="val 1666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Verdana"/>
              </a:rPr>
              <a:t>Кликните овде за унос приказа часа у </a:t>
            </a:r>
            <a:r>
              <a:rPr b="0" lang="sr-Latn-CS" sz="12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0" lang="sr-CS" sz="1200" spc="-1" strike="noStrike">
                <a:solidFill>
                  <a:srgbClr val="ffffff"/>
                </a:solidFill>
                <a:latin typeface="Verdana"/>
              </a:rPr>
              <a:t>документу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5410080"/>
          <a:ext cx="1218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410080"/>
                    <a:ext cx="1218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733920" y="4648320"/>
          <a:ext cx="914400" cy="71424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33920" y="46483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4648320"/>
          <a:ext cx="914400" cy="71424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46483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172200" y="4648320"/>
          <a:ext cx="914400" cy="714240"/>
        </p:xfrm>
        <a:graphic>
          <a:graphicData uri="http://schemas.openxmlformats.org/presentationml/2006/ole">
            <p:oleObj progId="PowerPoint.Show.12" r:id="rId8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72200" y="46483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315200" y="4648320"/>
          <a:ext cx="914400" cy="714240"/>
        </p:xfrm>
        <a:graphic>
          <a:graphicData uri="http://schemas.openxmlformats.org/presentationml/2006/ole">
            <p:oleObj progId="PowerPoint.Show.12" r:id="rId10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15200" y="46483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733920" y="5410080"/>
            <a:ext cx="990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</a:rPr>
              <a:t>Историј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</a:rPr>
              <a:t>2. ч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5410080"/>
            <a:ext cx="99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</a:rPr>
              <a:t>Српс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</a:rPr>
              <a:t>Јези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</a:rPr>
              <a:t>3. ч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410080"/>
            <a:ext cx="10670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</a:rPr>
              <a:t>Српск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</a:rPr>
              <a:t>Јези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</a:rPr>
              <a:t>4. ч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5334120"/>
            <a:ext cx="1143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</a:rPr>
              <a:t>Веронау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</a:rPr>
              <a:t>5. ч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5. Лазарева жена Милица била је потомак Вукана сина Стефана Немање и то је веза са Немањић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еђи на пит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003640" y="907920"/>
            <a:ext cx="3610080" cy="4496040"/>
            <a:chOff x="5003640" y="907920"/>
            <a:chExt cx="3610080" cy="44960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361008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 txBox="1"/>
            <p:nvPr/>
          </p:nvSpPr>
          <p:spPr>
            <a:xfrm>
              <a:off x="5003640" y="907920"/>
              <a:ext cx="361008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b3ed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932360" y="57340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нез Лазар и књегиња Милица”, фреска, манастир Љубостиња, 140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6. породицу кнеза Лазара чини он са женом, два сина и пет кће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ђи на пит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39640" y="2565360"/>
            <a:ext cx="5832720" cy="3846600"/>
            <a:chOff x="539640" y="2565360"/>
            <a:chExt cx="5832720" cy="384660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539640" y="2565360"/>
              <a:ext cx="583272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539640" y="2565360"/>
              <a:ext cx="5832720" cy="384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b3ed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588000" y="3500280"/>
            <a:ext cx="25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Цар Лазар и његова породица”, Адам Стефановић, литографија, 1871. Народни музеј, Бео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6444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7. Пријатељске везе кнеза Лазара вежу за краља Твртка, а женидбене за бугарског цара, мачванског бана а преко њега и мађарског краља, а од обласних господара са Балшићима у Зети и Вуком Бранковић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ђи на пит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644480" y="1052640"/>
            <a:ext cx="7499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8. У време кнеза Лазара вазали турског султана су Константин Драгаш и Краљевић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ђи на пит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444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9. Задужбине кнеза Лазара су Раваница, Горњак и припрата манастиру Хиланд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ђи на пит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6444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0. Маричка бит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убрав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лоч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илећ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ђи на пит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Колико смо успешно научили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87280" y="1447920"/>
          <a:ext cx="7533000" cy="4605120"/>
        </p:xfrm>
        <a:graphic>
          <a:graphicData uri="http://schemas.openxmlformats.org/drawingml/2006/table">
            <a:tbl>
              <a:tblPr/>
              <a:tblGrid>
                <a:gridCol w="714600"/>
                <a:gridCol w="682560"/>
                <a:gridCol w="681120"/>
                <a:gridCol w="681120"/>
                <a:gridCol w="682560"/>
                <a:gridCol w="682560"/>
                <a:gridCol w="682560"/>
                <a:gridCol w="681120"/>
                <a:gridCol w="681120"/>
                <a:gridCol w="682560"/>
                <a:gridCol w="68112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тањ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7775280" y="6172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b3edff"/>
                </a:solidFill>
                <a:latin typeface="Arial"/>
              </a:rPr>
              <a:t>13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b3edff"/>
                </a:solidFill>
                <a:latin typeface="Arial"/>
              </a:rPr>
              <a:t>Држава кнеза Лазара</a:t>
            </a:r>
            <a:br>
              <a:rPr sz="4000"/>
            </a:br>
            <a:r>
              <a:rPr b="0" lang="sr-CS" sz="4000" spc="-1" strike="noStrike">
                <a:solidFill>
                  <a:srgbClr val="b3edff"/>
                </a:solidFill>
                <a:latin typeface="Arial"/>
              </a:rPr>
              <a:t>историјска карта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738440"/>
            <a:ext cx="4038480" cy="4219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172200" y="3505320"/>
            <a:ext cx="176544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b3edff"/>
                </a:solidFill>
                <a:latin typeface="Arial"/>
              </a:rPr>
              <a:t>Продори Турака у време кнеза Лазара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256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380. Дубравница код Параћ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386. Плочник у Топли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388. Билеће у Бос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389. Косово пољ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b3edff"/>
                </a:solidFill>
                <a:latin typeface="Arial"/>
              </a:rPr>
              <a:t>Косовска битка</a:t>
            </a:r>
            <a:br>
              <a:rPr sz="4000"/>
            </a:br>
            <a:r>
              <a:rPr b="0" lang="sr-CS" sz="4000" spc="-1" strike="noStrike">
                <a:solidFill>
                  <a:srgbClr val="b3edff"/>
                </a:solidFill>
                <a:latin typeface="Arial"/>
              </a:rPr>
              <a:t>15 (28) јуни 1389.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ПСКА ВОЈ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нез Лаз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ук Бранков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латко Вуков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алшићи (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анас се сматра да је располагао са 10-15000 вој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УРСКА ВОЈ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ултан Мурат са синовима Јакубом и Бајазитом састављена од азијских и европских ваз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нстантин Драга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арко Краљевић(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анас се сматра да је располагао са 30000 вој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1454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b3edff"/>
                </a:solidFill>
                <a:latin typeface="Arial"/>
              </a:rPr>
              <a:t>ИСТОРИЈА</a:t>
            </a:r>
            <a:br>
              <a:rPr sz="4000"/>
            </a:br>
            <a:br>
              <a:rPr sz="4000"/>
            </a:br>
            <a:r>
              <a:rPr b="0" lang="sr-CS" sz="2800" spc="-1" strike="noStrike">
                <a:solidFill>
                  <a:srgbClr val="b3edff"/>
                </a:solidFill>
                <a:latin typeface="Arial"/>
              </a:rPr>
              <a:t>први час, обрада</a:t>
            </a:r>
            <a:br>
              <a:rPr sz="2800"/>
            </a:br>
            <a:br>
              <a:rPr sz="2800"/>
            </a:br>
            <a:r>
              <a:rPr b="1" lang="sr-CS" sz="4000" spc="-1" strike="noStrike">
                <a:solidFill>
                  <a:srgbClr val="b3edff"/>
                </a:solidFill>
                <a:latin typeface="Arial"/>
              </a:rPr>
              <a:t>КОСОВСКА БИТКА У НАЦИОНАЛНОЈ ИСТОРИЈИ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sr-CS" sz="2800" spc="-1" strike="noStrike">
                <a:solidFill>
                  <a:srgbClr val="b3edff"/>
                </a:solidFill>
                <a:latin typeface="Arial"/>
              </a:rPr>
              <a:t>аутор</a:t>
            </a:r>
            <a:br>
              <a:rPr sz="2800"/>
            </a:br>
            <a:r>
              <a:rPr b="0" lang="sr-CS" sz="2800" spc="-1" strike="noStrike">
                <a:solidFill>
                  <a:srgbClr val="b3edff"/>
                </a:solidFill>
                <a:latin typeface="Arial"/>
              </a:rPr>
              <a:t> Драгана Мишић</a:t>
            </a:r>
            <a:r>
              <a:rPr b="0" lang="sr-CS" sz="2800" spc="-1" strike="noStrike">
                <a:solidFill>
                  <a:srgbClr val="b3edff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b3edff"/>
                </a:solidFill>
                <a:latin typeface="Arial"/>
              </a:rPr>
              <a:t>проф. историје</a:t>
            </a:r>
            <a:endParaRPr b="0" lang="en-US" sz="28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МЕСТО БИТКЕ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став Лаба и Ситн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а брежуљцима испред Приштине у стратегијском погледу кључ свих комуникација које из Поморавља воде ка Јадра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Јован Цвијић – ко држи Косово, тај влада не само Србијом, него и централном балканском облашћу око Скоп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29600" cy="4349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6165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ој на Косову”, Адам Стефановић, литографија, 1871, Народни музеј, Бг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Данашњи изглед места битке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0150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Ток битке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76944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549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549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68360" y="4437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Вук Бранковић и Мара”, Младен Србиновић, мозаик, 1989, Свечана сала Скупштине општине Крушева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3280" y="4437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ајазит”, Младен Србиновић, мозаик, 1989, Свечана сала Скупштине општине Крушева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ЛАЗАР И МУРАТ НАКОН БИТКЕ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ЛАЗ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ахрањен у цркви Св, Вазнесења у Приштини, а после пренет у Раван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690. пренет у манастир Врд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941.пренет у Београд (Саборна црк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989. пренет у Раван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У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ло послато у Брусу а утроба сахрањена на Косову, на месту где је данас Муратово тур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343400" y="3962520"/>
            <a:ext cx="1905120" cy="1585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553080" y="3962520"/>
            <a:ext cx="2087640" cy="158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ПОХВАЛА КНЕЗУ ЛАЗАРУ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атријарх Данило Тре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онахиња Јефи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тпис на стубу косовском                             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погледај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Српски јез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ладао са земљама свога отачеств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 јуначким срцем и с благочастивом жељом изашао пред демона, јер није могао да гледа да хришћанима свога отачества завладају Турц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и сад немој заборавити мила ти чеда...која обузеше многе туге и у многоме јаду свој живот проводе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010280" y="175248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7524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95280" y="692280"/>
            <a:ext cx="4038480" cy="4495680"/>
            <a:chOff x="395280" y="692280"/>
            <a:chExt cx="4038480" cy="44956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395280" y="69228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 txBox="1"/>
            <p:nvPr/>
          </p:nvSpPr>
          <p:spPr>
            <a:xfrm>
              <a:off x="395280" y="69228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b3ed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5581440" y="1845720"/>
            <a:ext cx="2019600" cy="2302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cc"/>
                </a:solidFill>
                <a:latin typeface="Arial"/>
              </a:rPr>
              <a:t>Човече који Српском земљом ступаш, било да си дошљак или овдашњи, ма ко да си и ма шта да си, када дођеш на поље ово, које се Косово зове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Похвално слово кнезу Лазару”, Монахиња Јефимија, 14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5589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Мраморни стуб на Косову пољ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456000" cy="4496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533760" cy="4392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5445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Врднички препис повеље кнеза Лазара Раваници, 1689, Музеј Српске православне цркве, Бео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48360" y="5373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вети ратници”, фреска, Манастир Грачаница, око 132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Хероји Косова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нез Лазар – херој или муче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илош Обилић – непознати херо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ук Бранковић – негативни херо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46716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003640" y="508464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Милош Обилић”, Милан Миловановић, уље на платну, 193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Сиже рада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вод-игра, мотивација за ч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лавни део- кроз дати материјал навести ученике да активно учествују у обради дате те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уочавање задатих елемената кроз активну наставу и дија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вршни део- кроз обрађено градиво доћи до нових закључака, учење путем открић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543800" y="571500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5715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43800" y="6248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</a:rPr>
              <a:t>Ток ча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86425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b3edff"/>
                </a:solidFill>
                <a:latin typeface="Arial"/>
              </a:rPr>
              <a:t>КОСОВО – ДУХОВНО УЈЕДИЊЕЊЕ СРБА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31640" y="2491920"/>
            <a:ext cx="7499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херојском Лазаревом поступку лежи семе целокупне српске косовске легенде, косовске традиције и народног косовског епа хомеровске снаг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68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68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644480" y="90756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СОВСКИ ЕП И КОСОВСКА ЛЕГЕНДА Србима су донели оно што им вековима нису могли донети њихови краљеви и цареви – донели су им духовно јединство и омогућили им одржање у ропству и у срединама које су на њих гледале као на непријатељ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рпски народ је у косовском часном и свесном страдању модао наћи једини извор своје наде да ће му у предстојећој ослободилачкој борби пример косовских јунака бити извор побе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Историјски извори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58560" y="1856880"/>
            <a:ext cx="7499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онах Игњат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говор из Фиренце на писмо краља Твр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исма Димитрија Кид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пис Филипа Мезиј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летачко посланство у Царигра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снији извори Нешрија и Орб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8820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Косовске битке у средњем веку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7280" y="256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369. присталице цара Уроша и краља Вукаш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389. Лазар и Мур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402. Стефан и Вук Лазареви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448. Мађари и Тур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b3edff"/>
                </a:solidFill>
                <a:latin typeface="Arial"/>
              </a:rPr>
              <a:t>Задатак </a:t>
            </a:r>
            <a:br>
              <a:rPr sz="4000"/>
            </a:br>
            <a:r>
              <a:rPr b="0" lang="sr-CS" sz="4000" spc="-1" strike="noStrike">
                <a:solidFill>
                  <a:srgbClr val="b3edff"/>
                </a:solidFill>
                <a:latin typeface="Arial"/>
              </a:rPr>
              <a:t>Косовска битка је          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Б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Р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3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6444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аснији извори говоре о пора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лики број мртв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сле смрти кнеза Лазара нема великаша који би наставио борбу с Турц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ађари продиру са севера и пљачкају српске територ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илица прихвата вазалну обавезу према Бајазиту и даје му кћер Оливеру за же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ђи на задат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6444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Б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пска војска је остала на месту после бит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ви извори говоре о поб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урска војска се повукла после бит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рати се на задат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120" y="475920"/>
            <a:ext cx="86425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. Mihaljcic, The battle of Kosovo in history and in popular tradition,Beograd 198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сторија српског народ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,Београд 198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Ј.Митровић,Историја Срба,Београд 199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.Бограновић,Књига о Косову,Београд 199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ој на Косову – старија и новија сазнања,Београд 199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Ј.Калић,Срби у позном средњем веку,Београд 199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3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Домаћи задатак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прошлости пронаћи битке које п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огатом преда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ној и писаној књиже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оралним идејама и пору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тицају на националну свест  - могу да се пореде са Косовском бит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Припрема за утврђивање градива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ченици су подељени у груп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Групе су означене бро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вима 1,2,3,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вака група одређује свог представника који даје одговоре и јавља се по принципу –ко ће п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мисија која бележи и надгледа редослед јављања унапред је одређ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ставник само координира р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3edff"/>
                </a:solidFill>
                <a:latin typeface="Arial"/>
              </a:rPr>
              <a:t>Питања за утврђивање градива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cfab"/>
                </a:solidFill>
                <a:uFillTx/>
                <a:latin typeface="Arial"/>
                <a:hlinkClick r:id="rId1" action="ppaction://hlinksldjump"/>
              </a:rPr>
              <a:t>1. Ко је био кнез Лазар</a:t>
            </a: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2" action="ppaction://hlinksldjump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cfab"/>
                </a:solidFill>
                <a:uFillTx/>
                <a:latin typeface="Arial"/>
                <a:hlinkClick r:id="rId3" action="ppaction://hlinksldjump"/>
              </a:rPr>
              <a:t>2. Којом т</a:t>
            </a: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4" action="ppaction://hlinksldjump"/>
              </a:rPr>
              <a:t>e</a:t>
            </a:r>
            <a:r>
              <a:rPr b="0" lang="sr-CS" sz="2000" spc="-1" strike="noStrike" u="sng">
                <a:solidFill>
                  <a:srgbClr val="ffcfab"/>
                </a:solidFill>
                <a:uFillTx/>
                <a:latin typeface="Arial"/>
                <a:hlinkClick r:id="rId5" action="ppaction://hlinksldjump"/>
              </a:rPr>
              <a:t>риторијом управља кнез Лазар</a:t>
            </a: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6" action="ppaction://hlinksldjump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cfab"/>
                </a:solidFill>
                <a:uFillTx/>
                <a:latin typeface="Arial"/>
                <a:hlinkClick r:id="rId7" action="ppaction://hlinksldjump"/>
              </a:rPr>
              <a:t>3. Од када потиче успон кнеза Лазара</a:t>
            </a: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8" action="ppaction://hlinksldjump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cfab"/>
                </a:solidFill>
                <a:uFillTx/>
                <a:latin typeface="Arial"/>
                <a:hlinkClick r:id="rId9" action="ppaction://hlinksldjump"/>
              </a:rPr>
              <a:t>4. Ко је највернији савезник кнеза Лазара</a:t>
            </a: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10" action="ppaction://hlinksldjump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cfab"/>
                </a:solidFill>
                <a:uFillTx/>
                <a:latin typeface="Arial"/>
                <a:hlinkClick r:id="rId11" action="ppaction://hlinksldjump"/>
              </a:rPr>
              <a:t>5.Како је кнез Лазар повезан са династијом Немањића</a:t>
            </a: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12" action="ppaction://hlinksldjump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cfab"/>
                </a:solidFill>
                <a:uFillTx/>
                <a:latin typeface="Arial"/>
                <a:hlinkClick r:id="rId13" action="ppaction://hlinksldjump"/>
              </a:rPr>
              <a:t>6. Ко чини породицу кнеза Лазара</a:t>
            </a: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14" action="ppaction://hlinksldjump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cfab"/>
                </a:solidFill>
                <a:uFillTx/>
                <a:latin typeface="Arial"/>
                <a:hlinkClick r:id="rId15" action="ppaction://hlinksldjump"/>
              </a:rPr>
              <a:t>7. Са којим суседима је кнез Лазар везан пријатељским и женидбеним везама</a:t>
            </a: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16" action="ppaction://hlinksldjump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cfab"/>
                </a:solidFill>
                <a:uFillTx/>
                <a:latin typeface="Arial"/>
                <a:hlinkClick r:id="rId17" action="ppaction://hlinksldjump"/>
              </a:rPr>
              <a:t>8. Ко је од српских владара вазал турског султана у време кнеза Лазара</a:t>
            </a: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18" action="ppaction://hlinksldjump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cfab"/>
                </a:solidFill>
                <a:uFillTx/>
                <a:latin typeface="Arial"/>
                <a:hlinkClick r:id="rId19" action="ppaction://hlinksldjump"/>
              </a:rPr>
              <a:t>9. Које су задужбине кнеза Лазара</a:t>
            </a: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20" action="ppaction://hlinksldjump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ffcfab"/>
                </a:solidFill>
                <a:uFillTx/>
                <a:latin typeface="Arial"/>
                <a:hlinkClick r:id="rId21" action="ppaction://hlinksldjump"/>
              </a:rPr>
              <a:t>10. Набројати што више турских похода на српске земље</a:t>
            </a: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22" action="ppaction://hlinksldjump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cfab"/>
                </a:solidFill>
                <a:uFillTx/>
                <a:latin typeface="Arial"/>
                <a:hlinkClick r:id="rId23" action="ppaction://hlinksldjump"/>
              </a:rPr>
              <a:t>13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Кнез Лазар је био великаш у време цара Уроша а касније се јавља као обласни господ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cfab"/>
                </a:solidFill>
                <a:uFillTx/>
                <a:latin typeface="Arial"/>
                <a:hlinkClick r:id="rId1" action="ppaction://hlinksldjump"/>
              </a:rPr>
              <a:t>Пређи на пит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4724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435640" y="981000"/>
            <a:ext cx="2951280" cy="398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64000" y="551664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нез Лазар”, Ђура Јакшић, 1859, Народни музеј, Бео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2. Кнез Лазар управља територијом слива трију Морава (Велике, Западне и Јужн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ђи на пит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19640" y="836640"/>
            <a:ext cx="3251160" cy="3268800"/>
            <a:chOff x="5219640" y="836640"/>
            <a:chExt cx="3251160" cy="326880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219640" y="836640"/>
              <a:ext cx="325116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5219640" y="836640"/>
              <a:ext cx="3251160" cy="326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b3ed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148360" y="443700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Грб кнеза Лазара, јужна фасада припрате католикона Хиландара, око 138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3.Успон кнеза Лазара потиче од времена цара Уроша, а после се појављује као обласни господ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еђи на пит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500720" y="1628640"/>
            <a:ext cx="4038480" cy="2575080"/>
            <a:chOff x="4500720" y="1628640"/>
            <a:chExt cx="4038480" cy="257508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4500720" y="1628640"/>
              <a:ext cx="4038480" cy="25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 txBox="1"/>
            <p:nvPr/>
          </p:nvSpPr>
          <p:spPr>
            <a:xfrm>
              <a:off x="4500720" y="1628640"/>
              <a:ext cx="4038480" cy="2575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b3ed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572000" y="4437000"/>
            <a:ext cx="410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Цар Урош и царица Јелена”, Младен Србиновић, мозаик, 1989, Свечана сала Скупштине општине, Крушева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6444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4. Највернији савезник био је бан и краљ Твртко Први Котроманић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ђи на пит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7:04:42Z</dcterms:created>
  <dc:creator>Maja</dc:creator>
  <dc:description/>
  <dc:language>en-US</dc:language>
  <cp:lastModifiedBy>Maja</cp:lastModifiedBy>
  <dcterms:modified xsi:type="dcterms:W3CDTF">2007-02-14T20:24:31Z</dcterms:modified>
  <cp:revision>27</cp:revision>
  <dc:subject/>
  <dc:title>Slide 1</dc:title>
</cp:coreProperties>
</file>